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A49-5F18-48E3-A6AC-C2692456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C71-B842-4E4F-BB5C-DE09CEA5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629-0714-4EDD-B477-B5CCF046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ABC-0FDA-49E1-B958-C9A842B2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1199-2DC4-434E-A8B2-CCB0433A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CA7E-ACF0-42A3-B69B-930BD689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32DD-D1B3-47CD-B8F1-2DACE1BB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A164-CF17-4F88-A1F5-D353ABD6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3D4-7340-45E1-AC09-4E9D1896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DA36-B58A-4679-B2C0-5425F6A3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D602-A147-476B-9A00-4BB10C0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FDD-45B2-4D4C-8120-0FC19007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BA90-6184-49BE-8FCF-76773AEA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CA7-93F1-421B-B552-A8C91157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20E9-3733-48C8-AD5E-0AB500BB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D119-C045-4B79-B46C-9B12B626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693F-C00C-4375-8637-2007BBD6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0FAC-47C1-4B70-8975-B4AD6569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9977-B252-4856-983F-9FCC95A0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683A-4226-4E91-97C7-1A62AD11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36E1-59E6-40A3-B40E-A0585C2F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2836-AD92-4A2F-B65F-C06FA228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711-DC05-4C08-8353-A8EA724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A735-3594-49BC-BD17-9B03EDAB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73BE-D8C1-40FD-AC18-63C2093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CE2C-C782-40F0-BC93-97FC3AF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FF09-7A70-4D3C-9FC8-4C5A974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E2B2-2072-43C1-B18C-14B24591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57A4-C36D-4CEB-9886-EF0A4C09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1113-38A5-4DC5-9044-816CF1E1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F2C3-5E7E-42BA-8958-4FD9B92C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2A38-8959-4304-A7B1-686DCB50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6DC75-7BBD-4135-888E-DC5574F4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86E-2FB9-4733-AAB7-B7E795EE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A80F-13CC-4768-AC54-92445D79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BC8CB-7B8E-465C-B8D0-13A34050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C500-D033-4377-895A-2FEA931A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F83E-6647-4640-8DBC-813250E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FAE1-CED3-4011-BE9A-39E401F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D56D-AC66-4A6E-9DB9-D9BDB31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56E5-B75F-4F2A-BEA5-B9652BCC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2A8B5-0C8F-464E-A701-1A367FEE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F0FCE-1948-4D98-9BE4-FCA404EE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9B3-8EE5-460C-B8A6-2CF4D1F7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7A2-FAA1-4606-9FAE-3E677DD1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4E1-2888-4C12-A35F-D3CB213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911-E654-4223-B5FC-3690B919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ADB-B4B7-42BC-80A8-9CAD5CC5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76B1-88DA-4613-92DA-0DB21262FD4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F726-20D4-420A-BB4C-32B60637DAD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3552-FD8D-40A6-8DF9-3581B292898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5589-869E-425E-90CB-F5B3A534795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19240" y="2816280"/>
            <a:ext cx="8626320" cy="212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Zambia_crest"/>
          <p:cNvPicPr/>
          <p:nvPr/>
        </p:nvPicPr>
        <p:blipFill>
          <a:blip r:embed="rId2"/>
          <a:stretch/>
        </p:blipFill>
        <p:spPr>
          <a:xfrm>
            <a:off x="3886200" y="533520"/>
            <a:ext cx="1316160" cy="15271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114300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Michael Ngulube, DACO, Chi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Stalin Sichinga, ARO, Z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e released varieties of the cowpeas are high yielding but not preferred by far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dibble stick required more labour. Farmers preferred using a ripper for 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ion between part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 between implementers and other stakehol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 not properly followed (short notice of important meetin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farmers are not able to read and write and therefore miss out on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4617b"/>
                </a:solidFill>
                <a:latin typeface="Arial"/>
                <a:ea typeface="Arial"/>
              </a:rPr>
              <a:t>Possible solution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2952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planning in early October for all the fiel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ign of a calendar of events an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 on best ways on flow of funds (CIMMYT and IITA manage one proj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llow up needs to improve (both organizations hired research assista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5100480" y="2048040"/>
            <a:ext cx="313380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itle 4"/>
          <p:cNvSpPr/>
          <p:nvPr/>
        </p:nvSpPr>
        <p:spPr>
          <a:xfrm>
            <a:off x="1676520" y="281952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Lucida Sans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mbia has an area of 750,000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bout 13 million peop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0,000 k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and is arab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4% is cropped in any ye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out 55 - 60% of the land area is covered by natural for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% of Zambia’s land surface is covered by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12800" y="5784840"/>
            <a:ext cx="782784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regions"/>
          <p:cNvPicPr/>
          <p:nvPr/>
        </p:nvPicPr>
        <p:blipFill>
          <a:blip r:embed="rId2"/>
          <a:srcRect l="3146" t="4460" r="2649" b="5398"/>
          <a:stretch/>
        </p:blipFill>
        <p:spPr>
          <a:xfrm>
            <a:off x="914400" y="838080"/>
            <a:ext cx="7315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cial wellbeing and economic development in Zambia is strongly linked with productivity growth in agriculture and sustainable management of farming system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ze is the main staple food crop grown widely in the country and critical for ensuring food security for the po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Constraints in Zambian Farming Systems</a:t>
            </a:r>
            <a:br>
              <a:rPr sz="43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121932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752480"/>
            <a:ext cx="4268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ative effects of climate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il degra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vailability of improved varie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sfunctional input-output mark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s and dis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draft power and farm impl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0" y="36576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12402" r="0" b="8858"/>
          <a:stretch/>
        </p:blipFill>
        <p:spPr>
          <a:xfrm>
            <a:off x="4724280" y="1219320"/>
            <a:ext cx="4038840" cy="22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4" descr="August 23, 2003 (23)"/>
          <p:cNvPicPr/>
          <p:nvPr/>
        </p:nvPicPr>
        <p:blipFill>
          <a:blip r:embed="rId2"/>
          <a:stretch/>
        </p:blipFill>
        <p:spPr>
          <a:xfrm>
            <a:off x="4572000" y="3657600"/>
            <a:ext cx="4191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52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 address some constraints in Zambian farming systems, Feed the Future through IITA, is implementing Sustainable Intensification of Maize-Legume Systems for the Eastern Province of Zambia (SIMLEZA) which focu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To address some constraints in Zambian farming systems, Feed the Future through IITA, is implementing</a:t>
            </a: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 Unicode MS"/>
              </a:rPr>
              <a:t>Sustainable Intensification of Maize-Legume Systems for the Eastern Province of Zambia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 (SIMLEZA) which focuses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2895480"/>
            <a:ext cx="4648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Daniel\Desktop\pics 19 feb\IMG_1878.JPG"/>
          <p:cNvPicPr/>
          <p:nvPr/>
        </p:nvPicPr>
        <p:blipFill>
          <a:blip r:embed="rId1"/>
          <a:stretch/>
        </p:blipFill>
        <p:spPr>
          <a:xfrm>
            <a:off x="4648320" y="279072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SIMLEZA Project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farm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ipata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nje and Chiparamba cam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tete District: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fumbwe and Kawalala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undazi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ya and Vuu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station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ekera, GART, Kabwe, Misamfu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Eastern_Zambia_districts (2)"/>
          <p:cNvPicPr/>
          <p:nvPr/>
        </p:nvPicPr>
        <p:blipFill>
          <a:blip r:embed="rId1"/>
          <a:srcRect l="711" t="0" r="711" b="0"/>
          <a:stretch/>
        </p:blipFill>
        <p:spPr>
          <a:xfrm>
            <a:off x="4572000" y="2133720"/>
            <a:ext cx="40384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gumes selected are at the bottom of the farmers’ prior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unity is uncertain of the market for the seed to be multipli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are not aware of the market (outlet) for the produ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largely use the cowpeas leaves as vegetables and not the grain. There is therefore for a market for the gr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pment for processing is rare and the current one for groundnut processing demands a lot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9:42:22Z</dcterms:created>
  <dc:creator>HP</dc:creator>
  <dc:description/>
  <dc:language>en-US</dc:language>
  <cp:lastModifiedBy>HP</cp:lastModifiedBy>
  <dcterms:modified xsi:type="dcterms:W3CDTF">2012-10-01T19:42:37Z</dcterms:modified>
  <cp:revision>33</cp:revision>
  <dc:subject/>
  <dc:title>ZAMBIA</dc:title>
</cp:coreProperties>
</file>